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D0E-2CFE-434A-A5D9-2649C2A8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07E3-7FF3-41DA-8CE8-C68B760F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D2D6-7D2B-4592-BC22-781D18F6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6B30-4F4A-4A54-929B-B376BF765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8B22-29FC-45FF-87EF-2BC89D46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3BC6-743B-4A36-9BE8-3AE9A51F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561-A62B-4EE1-8A07-53216E9B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E43-CFD0-4D82-A071-42C840568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4C08-EE13-4310-A05C-B2F9DDDD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D96C-33F9-4E35-98CF-08BAA272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C2C-5C83-4A07-A6D5-466F0E93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207A-E25F-4BA2-A574-074FDF90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D7A8-AAF6-44FF-BA53-088301AA0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CE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09560" y="1333440"/>
            <a:ext cx="5678640" cy="5148360"/>
            <a:chOff x="709560" y="1333440"/>
            <a:chExt cx="5678640" cy="5148360"/>
          </a:xfrm>
        </p:grpSpPr>
        <p:sp>
          <p:nvSpPr>
            <p:cNvPr id="43" name=""/>
            <p:cNvSpPr/>
            <p:nvPr/>
          </p:nvSpPr>
          <p:spPr>
            <a:xfrm>
              <a:off x="1434960" y="1866960"/>
              <a:ext cx="914400" cy="8380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rgin=5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89040" y="1333440"/>
              <a:ext cx="608040" cy="22392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892160" y="1562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340000" y="2286000"/>
              <a:ext cx="54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340160" y="2033640"/>
              <a:ext cx="874800" cy="509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row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ilure, Ex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449440" y="20430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92160" y="2695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68240" y="26812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86120" y="1859040"/>
              <a:ext cx="914400" cy="8380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rgin=0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790800" y="2278080"/>
              <a:ext cx="54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900240" y="20350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41520" y="2697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17600" y="26827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52560" y="3006720"/>
              <a:ext cx="1159200" cy="447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ign default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le na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9560" y="3006720"/>
              <a:ext cx="1874880" cy="888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nent_file = arg[1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sp_file = arg[2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ameter_file = arg[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_file = arg[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cho_flag = arg[5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39840" y="4111560"/>
              <a:ext cx="1306440" cy="3603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d input fi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92160" y="391464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"/>
            <p:cNvCxnSpPr>
              <a:stCxn id="56" idx="2"/>
              <a:endCxn id="58" idx="3"/>
            </p:cNvCxnSpPr>
            <p:nvPr/>
          </p:nvCxnSpPr>
          <p:spPr>
            <a:xfrm rot="5400000">
              <a:off x="2520360" y="3480480"/>
              <a:ext cx="837720" cy="786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1916280" y="447372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440000" y="4762440"/>
              <a:ext cx="914400" cy="8384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ccess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11320" y="4941720"/>
              <a:ext cx="874800" cy="5097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row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ilure, Ex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62320" y="5186520"/>
              <a:ext cx="54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71760" y="49435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95400" y="55897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71480" y="5575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43080" y="5919840"/>
              <a:ext cx="1306440" cy="3603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cu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78200" y="5643720"/>
              <a:ext cx="914400" cy="8380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ccess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2550960" y="6076440"/>
              <a:ext cx="331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3324240" y="546084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792600" y="6052680"/>
              <a:ext cx="384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162320" y="5873760"/>
              <a:ext cx="1306440" cy="3603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nt Resul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18080" y="423072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97440" y="4054320"/>
              <a:ext cx="590760" cy="311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98720" y="580068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62160" y="542124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402080" y="4705200"/>
              <a:ext cx="914400" cy="8384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cho_fla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=1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08400" y="4038480"/>
              <a:ext cx="1306440" cy="3603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nt Resul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scre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" name=""/>
            <p:cNvCxnSpPr>
              <a:stCxn id="78" idx="3"/>
              <a:endCxn id="75" idx="2"/>
            </p:cNvCxnSpPr>
            <p:nvPr/>
          </p:nvCxnSpPr>
          <p:spPr>
            <a:xfrm flipV="1">
              <a:off x="5316480" y="4365720"/>
              <a:ext cx="776520" cy="7592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5384520" y="484488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876920" y="5533560"/>
              <a:ext cx="0" cy="32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53160" y="4384440"/>
              <a:ext cx="0" cy="31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33720" y="445932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1916280" y="1630440"/>
            <a:ext cx="5398920" cy="4728960"/>
            <a:chOff x="1916280" y="1630440"/>
            <a:chExt cx="5398920" cy="4728960"/>
          </a:xfrm>
        </p:grpSpPr>
        <p:sp>
          <p:nvSpPr>
            <p:cNvPr id="86" name=""/>
            <p:cNvSpPr/>
            <p:nvPr/>
          </p:nvSpPr>
          <p:spPr>
            <a:xfrm>
              <a:off x="2076480" y="2163600"/>
              <a:ext cx="914400" cy="8384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atisf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s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30560" y="1630440"/>
              <a:ext cx="608040" cy="22392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33680" y="18590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981160" y="2583000"/>
              <a:ext cx="54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35200" y="2328840"/>
              <a:ext cx="874800" cy="5097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row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ilure, Ex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90600" y="23400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33680" y="2992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09400" y="29782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76480" y="3306600"/>
              <a:ext cx="914400" cy="8384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b f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SP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33680" y="41353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09400" y="412128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16280" y="4452840"/>
              <a:ext cx="1236600" cy="528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aluate cycles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 eq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00240" y="3726000"/>
              <a:ext cx="54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54280" y="3471840"/>
              <a:ext cx="874800" cy="5097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w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09680" y="34830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38800" y="3716280"/>
              <a:ext cx="54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92840" y="3462480"/>
              <a:ext cx="874440" cy="509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y Sub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if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77000" y="3706920"/>
              <a:ext cx="54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31040" y="3452760"/>
              <a:ext cx="874800" cy="5097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y SIM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67360" y="396396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40400" y="4471920"/>
              <a:ext cx="874800" cy="5097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cu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77000" y="4727520"/>
              <a:ext cx="54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02200" y="4471920"/>
              <a:ext cx="874800" cy="5097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y VLI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448160" y="4727520"/>
              <a:ext cx="54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73360" y="4471920"/>
              <a:ext cx="874800" cy="5097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ppl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nerg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cycle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16280" y="5291280"/>
              <a:ext cx="1236600" cy="52848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valu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me, energ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33680" y="49737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10" idx="2"/>
              <a:endCxn id="111" idx="3"/>
            </p:cNvCxnSpPr>
            <p:nvPr/>
          </p:nvCxnSpPr>
          <p:spPr>
            <a:xfrm rot="5400000">
              <a:off x="3294000" y="4839480"/>
              <a:ext cx="575280" cy="859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4" name=""/>
            <p:cNvSpPr/>
            <p:nvPr/>
          </p:nvSpPr>
          <p:spPr>
            <a:xfrm>
              <a:off x="2535120" y="58309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30560" y="6135840"/>
              <a:ext cx="608040" cy="2235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in Computation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27080" y="1644480"/>
            <a:ext cx="914400" cy="838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isf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81160" y="1111320"/>
            <a:ext cx="608040" cy="2239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84280" y="133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32120" y="2063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86160" y="1809720"/>
            <a:ext cx="874440" cy="5097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ure, 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41200" y="18208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84280" y="247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60360" y="24591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27080" y="2787480"/>
            <a:ext cx="914400" cy="838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484280" y="3616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60360" y="36021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66880" y="3933720"/>
            <a:ext cx="1236600" cy="5288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cycl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 eq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51200" y="320688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5240" y="2952720"/>
            <a:ext cx="874440" cy="5097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60280" y="29638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89400" y="319716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3440" y="2943360"/>
            <a:ext cx="874800" cy="509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Su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27600" y="318780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81640" y="2933640"/>
            <a:ext cx="874800" cy="5097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er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yc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18320" y="344484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1000" y="3952800"/>
            <a:ext cx="874800" cy="5097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SI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27600" y="420840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0" y="3952800"/>
            <a:ext cx="874800" cy="5097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VLI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66880" y="4772160"/>
            <a:ext cx="1236600" cy="52848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,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84280" y="44546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39" idx="1"/>
            <a:endCxn id="140" idx="3"/>
          </p:cNvCxnSpPr>
          <p:nvPr/>
        </p:nvCxnSpPr>
        <p:spPr>
          <a:xfrm flipV="1" rot="10800000">
            <a:off x="2102760" y="4208040"/>
            <a:ext cx="1850040" cy="829440"/>
          </a:xfrm>
          <a:prstGeom prst="bentConnector3">
            <a:avLst>
              <a:gd name="adj1" fmla="val 499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1486080" y="531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1160" y="5616720"/>
            <a:ext cx="608040" cy="2235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3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IW Rout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2600" y="2682720"/>
            <a:ext cx="914400" cy="838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LI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6320" y="2149560"/>
            <a:ext cx="608040" cy="2239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09800" y="2378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57280" y="310212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11320" y="2847960"/>
            <a:ext cx="874800" cy="5097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66720" y="28591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09800" y="3511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5520" y="3497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5520" y="3821040"/>
            <a:ext cx="1157040" cy="6447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 Mult, Mem, and Other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8280" y="4808520"/>
            <a:ext cx="1295280" cy="8161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max_VLI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=VLIW_m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 = VLIW_M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3 =VLIW_AL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09800" y="447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600" y="5961240"/>
            <a:ext cx="1781280" cy="644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 = Mem / min(d,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 = Mult / min(d,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= Other / min(d,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09800" y="5626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6273720"/>
            <a:ext cx="371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2760" y="5942160"/>
            <a:ext cx="2352600" cy="6444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_flag = Mem/max(Mem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_flag = Mult/max(Mult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_flag = Other / max(Other,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2760" y="4979880"/>
            <a:ext cx="2352600" cy="6447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F = 4*Other_flag + 2* Mult_flag Mem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9240" y="561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02040" y="3807000"/>
            <a:ext cx="914400" cy="838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F = 0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2, or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16080" y="4105440"/>
            <a:ext cx="569880" cy="2426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59240" y="4654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676240" y="4229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57240" y="39546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4229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45040" y="3807000"/>
            <a:ext cx="914400" cy="838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F =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600440" y="358128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044960" y="1590840"/>
            <a:ext cx="1123920" cy="1987560"/>
            <a:chOff x="4044960" y="1590840"/>
            <a:chExt cx="1123920" cy="1987560"/>
          </a:xfrm>
        </p:grpSpPr>
        <p:sp>
          <p:nvSpPr>
            <p:cNvPr id="172" name=""/>
            <p:cNvSpPr/>
            <p:nvPr/>
          </p:nvSpPr>
          <p:spPr>
            <a:xfrm>
              <a:off x="4154400" y="2739960"/>
              <a:ext cx="914400" cy="8384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1+d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611600" y="250524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44960" y="2065320"/>
              <a:ext cx="1123920" cy="4158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m = Mem /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ult = Mult /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25760" y="1590840"/>
              <a:ext cx="570240" cy="2426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611600" y="182880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5067360" y="1590840"/>
            <a:ext cx="1282680" cy="3054240"/>
            <a:chOff x="5067360" y="1590840"/>
            <a:chExt cx="1282680" cy="3054240"/>
          </a:xfrm>
        </p:grpSpPr>
        <p:sp>
          <p:nvSpPr>
            <p:cNvPr id="178" name=""/>
            <p:cNvSpPr/>
            <p:nvPr/>
          </p:nvSpPr>
          <p:spPr>
            <a:xfrm>
              <a:off x="5067360" y="4219560"/>
              <a:ext cx="2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5560" y="3807000"/>
              <a:ext cx="914400" cy="8380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F = 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791320" y="35812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5226120" y="1590840"/>
              <a:ext cx="1123920" cy="1987560"/>
              <a:chOff x="5226120" y="1590840"/>
              <a:chExt cx="1123920" cy="1987560"/>
            </a:xfrm>
          </p:grpSpPr>
          <p:sp>
            <p:nvSpPr>
              <p:cNvPr id="182" name=""/>
              <p:cNvSpPr/>
              <p:nvPr/>
            </p:nvSpPr>
            <p:spPr>
              <a:xfrm>
                <a:off x="5335560" y="2739960"/>
                <a:ext cx="914400" cy="838440"/>
              </a:xfrm>
              <a:prstGeom prst="flowChartDecision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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1+d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5792760" y="250524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226120" y="2065320"/>
                <a:ext cx="1123920" cy="415800"/>
              </a:xfrm>
              <a:prstGeom prst="flowChartAlternate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Mem = Mem /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th = Oth /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06920" y="1590840"/>
                <a:ext cx="570240" cy="242640"/>
              </a:xfrm>
              <a:prstGeom prst="flowChartAlternateProcess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xi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5792760" y="1828800"/>
                <a:ext cx="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6257880" y="421020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6080" y="3797280"/>
            <a:ext cx="914400" cy="838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F =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981840" y="357192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416640" y="1581120"/>
            <a:ext cx="1123920" cy="1987560"/>
            <a:chOff x="6416640" y="1581120"/>
            <a:chExt cx="1123920" cy="1987560"/>
          </a:xfrm>
        </p:grpSpPr>
        <p:sp>
          <p:nvSpPr>
            <p:cNvPr id="191" name=""/>
            <p:cNvSpPr/>
            <p:nvPr/>
          </p:nvSpPr>
          <p:spPr>
            <a:xfrm>
              <a:off x="6526080" y="2730240"/>
              <a:ext cx="914400" cy="8384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3+d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6983280" y="249552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16640" y="2055600"/>
              <a:ext cx="1123920" cy="4158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ult = Mult /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th = Oth /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697440" y="1581120"/>
              <a:ext cx="570240" cy="2426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983280" y="181908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7448400" y="420048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8029440" y="3742560"/>
            <a:ext cx="314280" cy="90504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F=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43240" y="3954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243480" y="3954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395840" y="3954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81160" y="3954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73560" y="3029040"/>
            <a:ext cx="569880" cy="2426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944960" y="2590920"/>
            <a:ext cx="569880" cy="24264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88160" y="3019320"/>
            <a:ext cx="569880" cy="2430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48400" y="31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952440" y="31622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182" idx="1"/>
            <a:endCxn id="203" idx="2"/>
          </p:cNvCxnSpPr>
          <p:nvPr/>
        </p:nvCxnSpPr>
        <p:spPr>
          <a:xfrm rot="10800000">
            <a:off x="5230080" y="2832840"/>
            <a:ext cx="105480" cy="326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7405560" y="2890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09960" y="2900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100480" y="31384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29000" y="25192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14720" y="25192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14960" y="251928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LIW Routine (CF = 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600120" y="2876400"/>
            <a:ext cx="314280" cy="90468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F=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09600" y="331488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68440" y="2911320"/>
            <a:ext cx="914400" cy="838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1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2+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925640" y="268596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59000" y="1979640"/>
            <a:ext cx="1123920" cy="6825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=Mem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 = Mult /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 = Oth /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39800" y="1514520"/>
            <a:ext cx="569880" cy="2430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925640" y="175248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351080" y="3979800"/>
            <a:ext cx="1123920" cy="6825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(vect) = rank(mem, mult,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82720" y="4884840"/>
            <a:ext cx="1124280" cy="6825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_R = (d1,d2,d3) sorted by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9880" y="521964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78440" y="4807080"/>
            <a:ext cx="914400" cy="838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_R[1]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_R[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13040" y="3753000"/>
            <a:ext cx="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78400" y="3941640"/>
            <a:ext cx="1914480" cy="6829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_cycles[1] = d_cycles[1]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_cycles[2] = d_cycles[2]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49800" y="3476520"/>
            <a:ext cx="569880" cy="2430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4535640" y="37148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533840" y="461916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51080" y="4884840"/>
            <a:ext cx="1123920" cy="6825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_cycles = (Mem,Mult,Oth) sorted by 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13040" y="4667400"/>
            <a:ext cx="0" cy="19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76440" y="5229360"/>
            <a:ext cx="200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164280" y="4807080"/>
            <a:ext cx="914400" cy="838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_R[1]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_R[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664240" y="3941640"/>
            <a:ext cx="1914480" cy="68292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_cycles[1] = d_cycles[1]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_cycles[3] = d_cycles[3]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335640" y="3476520"/>
            <a:ext cx="569880" cy="2430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621480" y="371484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620040" y="4619160"/>
            <a:ext cx="0" cy="1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25" idx="3"/>
            <a:endCxn id="234" idx="1"/>
          </p:cNvCxnSpPr>
          <p:nvPr/>
        </p:nvCxnSpPr>
        <p:spPr>
          <a:xfrm>
            <a:off x="4992840" y="5225760"/>
            <a:ext cx="1172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0" name=""/>
          <p:cNvSpPr/>
          <p:nvPr/>
        </p:nvSpPr>
        <p:spPr>
          <a:xfrm>
            <a:off x="6173640" y="5816520"/>
            <a:ext cx="914400" cy="838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_R[2]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_R[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326360" y="6113520"/>
            <a:ext cx="569880" cy="2430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8160" y="6103800"/>
            <a:ext cx="569880" cy="24300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83120" y="5894280"/>
            <a:ext cx="1914480" cy="682560"/>
          </a:xfrm>
          <a:prstGeom prst="flowChartAlternate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_cycles[2] = d_cycles[2]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_cycles[3] = d_cycles[3]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20040" y="5638680"/>
            <a:ext cx="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77240" y="622944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000840" y="6229440"/>
            <a:ext cx="16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857760" y="6219720"/>
            <a:ext cx="218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19000" y="267192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14240" y="36910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00200" y="45864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338520" y="459576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995800" y="5958000"/>
            <a:ext cx="28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53120" y="596736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48240" y="55864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67240" y="49672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tated CE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117880" y="1368360"/>
            <a:ext cx="5610240" cy="5148360"/>
            <a:chOff x="2117880" y="1368360"/>
            <a:chExt cx="5610240" cy="5148360"/>
          </a:xfrm>
        </p:grpSpPr>
        <p:sp>
          <p:nvSpPr>
            <p:cNvPr id="258" name=""/>
            <p:cNvSpPr/>
            <p:nvPr/>
          </p:nvSpPr>
          <p:spPr>
            <a:xfrm>
              <a:off x="2843280" y="1901880"/>
              <a:ext cx="914400" cy="8380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rgin=4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97360" y="1368360"/>
              <a:ext cx="608040" cy="22392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00480" y="1596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748320" y="2320920"/>
              <a:ext cx="54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48480" y="2068560"/>
              <a:ext cx="874800" cy="50940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row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ilure, Ex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57760" y="207792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00480" y="27306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76560" y="271620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94440" y="1893960"/>
              <a:ext cx="914400" cy="8380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rgin=0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99120" y="2313000"/>
              <a:ext cx="54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308560" y="207000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49840" y="273204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25920" y="27176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60880" y="3041640"/>
              <a:ext cx="1159200" cy="447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ssign default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le na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17880" y="3041640"/>
              <a:ext cx="1874880" cy="85392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nent_file = arg[1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sp_file = arg[2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ameter_file = arg[3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put_file = arg[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48160" y="4146480"/>
              <a:ext cx="1306440" cy="3603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d input fi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00480" y="3902040"/>
              <a:ext cx="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5" name=""/>
            <p:cNvCxnSpPr>
              <a:stCxn id="271" idx="2"/>
              <a:endCxn id="273" idx="3"/>
            </p:cNvCxnSpPr>
            <p:nvPr/>
          </p:nvCxnSpPr>
          <p:spPr>
            <a:xfrm rot="5400000">
              <a:off x="3927600" y="3515400"/>
              <a:ext cx="838800" cy="7866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"/>
            <p:cNvSpPr/>
            <p:nvPr/>
          </p:nvSpPr>
          <p:spPr>
            <a:xfrm>
              <a:off x="3324600" y="4508640"/>
              <a:ext cx="0" cy="28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8320" y="4797360"/>
              <a:ext cx="914400" cy="8384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ccess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19640" y="4976640"/>
              <a:ext cx="874800" cy="5097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row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ailure, Ex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70640" y="5221440"/>
              <a:ext cx="54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80080" y="497844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03720" y="562464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79800" y="5610240"/>
              <a:ext cx="28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51400" y="5954760"/>
              <a:ext cx="1306440" cy="3603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cu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286520" y="5678640"/>
              <a:ext cx="914400" cy="8380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ccess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959280" y="6111360"/>
              <a:ext cx="331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732560" y="549576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5200920" y="6087600"/>
              <a:ext cx="384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70640" y="5908680"/>
              <a:ext cx="1306440" cy="36036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nt Resul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58360" y="607680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37720" y="5900760"/>
              <a:ext cx="590400" cy="3110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07040" y="583560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70480" y="5456160"/>
              <a:ext cx="28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01:41:01Z</dcterms:created>
  <dc:creator>James Neel_edit</dc:creator>
  <dc:description/>
  <dc:language>en-US</dc:language>
  <cp:lastModifiedBy>James Neel</cp:lastModifiedBy>
  <dcterms:modified xsi:type="dcterms:W3CDTF">2008-02-02T23:08:41Z</dcterms:modified>
  <cp:revision>12</cp:revision>
  <dc:subject/>
  <dc:title>Slide 1</dc:title>
</cp:coreProperties>
</file>